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E5AF-B2DD-4FD1-9D7E-AA929C37FD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07A4-D1F4-4A1A-9512-331319B715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090A-C009-4BB9-ADCC-006D886D3D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5146-46F5-4917-9B44-A831D8D3CD2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E8ED0-0178-4C57-A473-CAFCA0924C9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D814-894D-4D09-9346-B4C2E3686EB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AA21-0642-437F-B95D-C77FFE24A27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8F96-BB4B-48D7-9C4C-AA5F7BBEDBC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2F37-0226-4D21-AB77-22718CB8CE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575-1EEC-47E5-806A-8FE5AED51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403-F35B-426E-819D-A4843D2B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1FA6-B73B-4CEE-B432-41E1A25E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129A-9219-47F1-A0CC-29AFF014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AF92-87F3-4737-9802-5DCDFBE8F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C09B-62F8-4E3F-AEF6-A980DAEE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E21-05E4-496C-A290-1618C4BBB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2FB-5DAE-436D-A8A3-2F3947F0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347-A019-440D-987B-40B083A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CFE3-C9E4-4E45-8E74-09DFCCB0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B91A-6D80-4784-84F0-268EB2E7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F92-2A45-4F24-BB0A-F1564DFF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Georg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Georg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1CC2-60C8-4DC4-987E-66352A7741F3}" type="slidenum">
              <a:rPr b="0" lang="en-US" sz="1200" spc="-1" strike="noStrike">
                <a:solidFill>
                  <a:srgbClr val="bcbcb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y favorite subject Is P.E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2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3657600" y="2676600"/>
            <a:ext cx="1828800" cy="1504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y favorite book is a Magic Tree House  book. It is called Summer of the Sea Serpent.Its author is Mary Pope Osborn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55" name="Picture 4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3962520" y="4495680"/>
            <a:ext cx="1747800" cy="1694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y favorite place is Bush Gardens it is in Virginia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My favorite food Is garlic breadsticks and salad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A famous person I would like to meet is Amelia Earhart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am afraid of shark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I want to be a veterinarian when I grow up. Plus to help stray animals.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6:43Z</dcterms:created>
  <dc:creator> pc#3</dc:creator>
  <dc:description/>
  <dc:language>en-US</dc:language>
  <cp:lastModifiedBy> pc#3</cp:lastModifiedBy>
  <dcterms:modified xsi:type="dcterms:W3CDTF">2009-11-12T20:15:45Z</dcterms:modified>
  <cp:revision>7</cp:revision>
  <dc:subject/>
  <dc:title>Who am i</dc:title>
</cp:coreProperties>
</file>